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DBF6-676F-4174-A63C-4CD504567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monstrate the steps used to create the radian wh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flect on what these slides mean to you as you think about becoming a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1D5-FBAB-47BB-A450-EF538AA4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56D-AD1B-4E83-BA3D-8F518A7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9FB-319D-41E2-9C47-BABE0380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EB0-366B-4357-9DDB-31FD8411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4C07-583B-47EA-B87A-0AEF3270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79E7-E4FE-4B59-8EE4-0F94EF4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BFA2-08F3-432E-B6C0-96A6237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359-FDF2-4B47-970E-AF77CAF3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85AD-98F8-4E20-B7ED-6A6FBA8C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E964-58F4-4113-A99A-65B4BE0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9B56-D23C-4C31-A155-E108E11B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A2C-66A9-4B8A-B368-ED50B7B6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883F-4AA1-4294-8623-B79819F8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BD9B-0593-4140-8A04-60A8339E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5F43-465F-4921-B992-49EFCBCB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CF62-70CC-4B35-8C20-5240C0AC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627D-C187-4CBA-80F0-7A77DBC4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271-B102-4C45-B75F-BAF62103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DBF-FBFF-4F8F-9B6B-9BE6E501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4C1-C776-4D92-BB17-22B877B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83D-C822-45FF-906D-8995783D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EA3-6068-428E-98C2-38948FBD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FAB-C081-4361-B9D8-6975909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358-22DB-41C4-A5BC-9133AFD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231C-8922-4012-B28B-CC179B0E82B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e7030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4CE1-9FE8-4504-91FF-9454108ECF0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solcomhouse.com/solar_system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Trigonometric Fun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r turn to share: How we opened up the tas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tarted with an existing task (Hula Hoop Activity from TIPS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eveloped learning goals based on the overall/specific expect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Focus on the big idea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monstration: Radian Whee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How to make a radian whe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mplete steps 3 through 7 and explore the relationship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 to real world phenomen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40000" y="3392640"/>
            <a:ext cx="2857320" cy="457200"/>
            <a:chOff x="2340000" y="3392640"/>
            <a:chExt cx="2857320" cy="457200"/>
          </a:xfrm>
        </p:grpSpPr>
        <p:sp>
          <p:nvSpPr>
            <p:cNvPr id="136" name=""/>
            <p:cNvSpPr/>
            <p:nvPr/>
          </p:nvSpPr>
          <p:spPr>
            <a:xfrm>
              <a:off x="2340000" y="3392640"/>
              <a:ext cx="456840" cy="457200"/>
            </a:xfrm>
            <a:prstGeom prst="ellipse">
              <a:avLst/>
            </a:prstGeom>
            <a:solidFill>
              <a:srgbClr val="ffff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0960" y="3621240"/>
              <a:ext cx="2286360" cy="114120"/>
            </a:xfrm>
            <a:prstGeom prst="rect">
              <a:avLst/>
            </a:prstGeom>
            <a:solidFill>
              <a:srgbClr val="ffffb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look at a future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:\Radians\CLIP 2 Understanding the UNIT Circle.g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mathedirene.wikispaces.com/Radians+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079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ing your own parallel task (small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elect a big idea and an overall expectation from a Trig Functions strand (include appropriate specific expectations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sider the connected potential misconceptions/struggles/partial understandings that students have (posted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reate a learning goal and an appropriate parallel task that addresses the area of difficulty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Consolidate Debrief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a drop of water falls from the tip of an ici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6675" t="667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The En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1881360"/>
            <a:ext cx="54723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Consolidate Debrief</a:t>
            </a:r>
            <a:br>
              <a:rPr sz="4000"/>
            </a:b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 your understandings of today’s activities in your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“What’s Important Boo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What’s the most important thing about a radian? about an angle? about periodic functions?..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What’s the most important thing about creating a parallel task? An open question?..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Any concept focussed on trig func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Home Activity/ Further Consolidation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would you like to discuss during the next coaching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n what you’ve learned today in this breakout session, what is challenging my beliefs about teaching trigonometric functions?  What new learning do I believe has helped me shift my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groups of four record on a placemat different real phenomena which involve trigonometr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Minute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2498760" cy="284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67280" y="3284640"/>
            <a:ext cx="2870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t’s 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35640" y="1808280"/>
            <a:ext cx="2411280" cy="2171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79640" y="2637000"/>
            <a:ext cx="2700360" cy="2253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580000" y="425772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55640" y="483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28000" y="2276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504972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erris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7640" y="1700280"/>
            <a:ext cx="3708360" cy="2768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43640" y="173664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84360" y="44737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48360" y="4437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095640" y="4221000"/>
            <a:ext cx="2556000" cy="2111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832360" y="573408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d469b"/>
                </a:solidFill>
                <a:latin typeface="Arial"/>
              </a:rPr>
              <a:t>Session Three: Minds On…</a:t>
            </a:r>
            <a:r>
              <a:rPr b="0" lang="en-CA" sz="28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delling real phenomena with trig functions requires rad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808280"/>
            <a:ext cx="3851280" cy="2987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61800" y="48690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und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097000"/>
            <a:ext cx="3635640" cy="215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4329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6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allel Task: Walk the Walk Talk th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6360" y="2565360"/>
            <a:ext cx="22287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92720" y="2600280"/>
            <a:ext cx="3240000" cy="3738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879640" y="2960640"/>
            <a:ext cx="15908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Form teams of three (walker, calculator operator, CBR mana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lect one of the walks pictured or create your own see BLM 3.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scuss and record how you will “Walk the Walk”  to make the graph and use this knowledge to create a similar graph with a graphing calculator and a C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Session Three: Action! </a:t>
            </a:r>
            <a:r>
              <a:rPr b="0" lang="en-CA" sz="32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Why is this a parallel/open tas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Scaffolding question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cepts covered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ates of change, periodic nature of walk, maximum, minimum, intervals of increase and decrease, points of inflec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Connection to big ideas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Talk the Talk??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ervices</cp:lastModifiedBy>
  <dcterms:modified xsi:type="dcterms:W3CDTF">2009-08-12T03:01:47Z</dcterms:modified>
  <cp:revision>100</cp:revision>
  <dc:subject/>
  <dc:title>Slide 1</dc:title>
</cp:coreProperties>
</file>